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9856835"/>
        <c:axId val="71725695"/>
      </c:barChart>
      <c:catAx>
        <c:axId val="5985683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725695"/>
        <c:crosses val="autoZero"/>
        <c:auto val="1"/>
        <c:lblAlgn val="ctr"/>
        <c:lblOffset val="100"/>
        <c:noMultiLvlLbl val="0"/>
      </c:catAx>
      <c:valAx>
        <c:axId val="7172569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85683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60CE-8236-4182-8C6C-C7AA00506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C9B6-D9DC-4466-BDEE-4962F0FBF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2835-1C63-4578-BAC2-D51429928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D7F7-6E6C-4326-A327-8B3014BF7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2581-9FA2-4EBC-8AD0-A12CAE93A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655F-7BF9-4D56-84EE-BA27D20DC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5B79-D20B-4E13-B9D1-E7A97992C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FE37-CF37-4B2D-B383-2BE9611C6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649B-4E79-430B-A415-CECA77E77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0C9D-CF01-4603-9D8B-53A873A18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A224-EECE-4F24-9687-934B5AB6B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54C6-2681-4C17-A69D-491C48985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D8E13D-78F6-43F3-A68D-50E51527260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